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F96-6E75-437A-94FF-16A92665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B8C-5003-41BF-B281-F19D1D3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5F6-1748-498F-84CA-E4A878E9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BAD-3B2E-4CD7-A9A8-11C5999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3C0-11BB-4C54-B5F3-965C12A9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9D2-F8E6-4885-97B8-1AA98EC2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C37-559C-45DA-8B3A-ADE93FF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797-0E89-4A26-ACFD-7F3890E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2DF-6AAC-427C-B2A8-62773EDD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2AE-B749-4B6E-8D62-89EB2F7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870-8C03-4BEA-84C6-F8738FD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4E7-A2FF-4ECE-861E-265205B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75DE-3674-4364-A1B7-2D632215B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2"/>
          <p:cNvSpPr/>
          <p:nvPr/>
        </p:nvSpPr>
        <p:spPr>
          <a:xfrm>
            <a:off x="1219320" y="838080"/>
            <a:ext cx="56386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LUAREA-O PROBLEM</a:t>
            </a: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Ă VITALĂ A LUMII MOD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fesor Cer</a:t>
            </a: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anu Corn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xiste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 planetei noastre este ameni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de tot felul de fenomene specifice civiliza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ei moderne, care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 evolu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a ei c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re progres, r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â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e co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ent sau inco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ent indife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n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la ur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ile cuceririlor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i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i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 tehnicii moderne, astfel c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aceste ur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i sunt destul de v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oare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 chiar fatale P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â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tul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ciet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e moderne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ep s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realizeze c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nt pe cale nu numai de a-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distruge mediul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onjurator, dar chiar de a-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submina propriul vi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arte pu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e guverne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ge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 pentru dezvoltare din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treaga lume au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ercat s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schimbe sensul acestor tendi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 ameni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puri de 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irit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fibroz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lergen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organici cancerig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ncipalele surse de poluar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d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ur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up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le vulc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rtunile de pr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cendiile natu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e cas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st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 poluante din atmosfer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oxidul de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a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u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m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noxidul de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oxidul de s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xizii azot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mog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8:04:16Z</dcterms:created>
  <dc:creator>user</dc:creator>
  <dc:description/>
  <dc:language>en-US</dc:language>
  <cp:lastModifiedBy>user</cp:lastModifiedBy>
  <dcterms:modified xsi:type="dcterms:W3CDTF">2012-04-11T08:04:44Z</dcterms:modified>
  <cp:revision>1</cp:revision>
  <dc:subject/>
  <dc:title>Diapozitivul 1</dc:title>
</cp:coreProperties>
</file>